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A07A-B224-4E3C-89BA-FE91C189E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1BB3-6FA1-48D8-9849-6D0C756B0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43FF-58AC-4B3D-A518-25BD6C404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F70E-F8F5-4F63-933C-19CA7AD9F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0672-5955-4076-B081-A413C4971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1F39-BA99-4D6F-982D-C9CCD2CA7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9919-E06C-49CF-9CAE-D84762A9D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9A95-C2A2-4C45-9928-0508BBB0B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CAF5-1AEA-46D4-9204-651B1B1B4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5860-91C3-404C-9C23-21D1049DB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D163-3D16-4422-B27D-F59D81820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66F1-88C7-44CB-A322-9C891D961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92FA-74C5-4332-9385-728A973C2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7BE2-63A6-41A6-AB28-B63DECFF5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3DF5-49B0-4C19-9ED6-17087DA4D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BFCF-6475-44AE-9EC9-B25C8BBBD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CF43-3A63-4E48-B279-52E9DF6F3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53E3-F1AC-4AD9-8880-9C2CF210E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04C9-DD94-4390-B08B-5D955BB8B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769D-321C-4349-AA54-E59E28F38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7789-7E63-4FC6-9FF1-4EF6E1076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0282-6820-4898-B71D-8EB3F6C33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B3BB-06A5-49E9-8C4A-561FC755E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A8FE-D782-4401-AA09-59D477CAD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487C-04E0-4768-AB0B-DA911D59D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7B91-4441-412A-A389-D4063B794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87C6-48C2-462C-9CB3-1DFDB8921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458D-1B68-4DD4-B500-95F843220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38C8-5995-4471-8427-2409AAF95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3A04-903E-4631-B760-0DF7BFB7F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8EB3-343A-41F7-B624-C66713C4E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086C-A0C2-42B5-B3FD-F16DCD2B5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C12B-4A61-4705-B4D1-9F9AA1AB1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8DD9-1A2F-4862-9EE6-1D0333846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D21F-1355-4F4F-84E5-C8B146102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3A7E-FCE1-4C0C-B3AF-4E395ABF4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AB2C-5F8B-4789-A592-5D4ECE9B9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5D3C-66ED-44EE-807F-23FC265A2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81AC-3ABA-408C-8C12-C697A6155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DF2B-165A-41B7-84FA-73AE5E599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75AB-1754-4D25-936B-D722EB861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6756-2FE0-449D-8DC5-0CEFE545E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FC4D-887D-4513-90F7-8B5A9F332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62AA6-B407-4DAC-94D8-AF632EE29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FBA4A-E5DE-4885-B487-09C1E2D87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BD354-09A0-4CBF-882A-DDA50EF91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669-A46B-4960-B3BB-1B11E191AA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BF9-3CD3-43C1-9641-77A80189CD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98EF-0B16-4E77-A0A6-1D0AB9B538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103-5799-4CB3-8C78-1B4CDC0C52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321-A51A-404D-B00D-58D8785177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1E8-B4E1-43F7-AA39-BDF7D9C88D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3FD-80F9-4186-8255-C89DDBFA0A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400D7-716E-4CC0-80CF-627AA7B2B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E25-410B-4CEC-AACF-66EC14EA72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CA6-9BFA-4FAF-A875-4FE3A2E06B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F30-A64E-4840-A11A-29748A867E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8D6-E228-4ADA-AC1B-89EF21E3BD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1451-E0B2-4927-AECE-20E3BFB8A8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CB9CA-C1BF-4489-81A1-E64294117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3F8BD-9A9E-4A3D-B470-07967DC60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E9A5-17FD-4F43-BBDE-B5FEE88D1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3A76F-9427-49D1-847D-B027F2A2E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01BA4-1E42-408B-A0F3-4A4EB7704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D5E50-394D-4497-825A-AF659113E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51488-56CE-428C-B6B3-BC63F47A7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8EEC-3D21-4F01-8C8A-64B15DF262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3189-340A-46D2-8A7C-4F58888531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5A53-6B69-426E-ADDA-2FEC29C0A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6"/>
          <p:cNvSpPr/>
          <p:nvPr/>
        </p:nvSpPr>
        <p:spPr>
          <a:xfrm>
            <a:off x="3581280" y="18288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nuel Qualité, Structure et  Contenus – op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A50E-0FF2-4C3F-AD46-C2441DAF6B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fs de poste incluant les qualification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ste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ditions de recru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ternes et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F879-AA7A-47FA-BABE-7374905B67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5. Contrôle de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pprobation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finaliser le document : vérification, impression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gestion de la confiden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roduction de ra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iste des documents de référe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man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42F3-FFE8-4E99-A848-43B65EE67D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SimSun"/>
              </a:rPr>
              <a:t>6. Bâtiments et Environn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lan des bâtiment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ints d’accès réser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ignalétique du laboratoire ou autr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exigences environnementales pour le laboratoire (taille, température, eau, électricité, flux d’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ncertitudes tolér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1A77-A26C-4542-A442-514D029B0B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7. Gestion des instruments, réactifs et consomm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pécifier que chaque instrument requiert des procédures écrites, une maintenance et un contrôle de qual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ande et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sommables et fournitures – définir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3F4B-B72E-4631-9B2E-E3D03A7BC4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8.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échantillons et du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’incen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e dangers chi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limination des déch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é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iquetag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A111-B7C9-49FE-9D1F-F17F4A5CE9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9. Procédures pré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éparation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liquots et pré traitement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94F8-C59F-44E9-AAE8-A6B1DE3ECA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0. Procédures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éactif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ibration / contrô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 d’analyse/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F8EB-903F-4599-90AA-2ABE7EFDD0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1. Procédures post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nalyse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 biologique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ression/copie du compte-rendu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du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lasser (archiver) le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ations avec les autorités de surveillance des mala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BA48-C40F-481B-B5B9-F5A9D5B9A8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2. Contrôl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appel de l’engagement envers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ier aux procédures de contrô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équi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pétence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sumé de toutes les procédures de CQ et liens avec les sections appropriées du manu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D859-727B-43F1-A4E2-C776B7E880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3. Actions correctives/préventives, Audit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voir et comprendre tous les problèmes et les err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udits internes requis par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CCEB-7C9E-43D8-ACB9-5C3C95183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CCA8-A3A1-4308-97B6-0CA440C1A7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de la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qualité (spécifie les lignes de condu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structi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gistres/Enregist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7_docs_structure"/>
          <p:cNvPicPr/>
          <p:nvPr/>
        </p:nvPicPr>
        <p:blipFill>
          <a:blip r:embed="rId1"/>
          <a:stretch/>
        </p:blipFill>
        <p:spPr>
          <a:xfrm>
            <a:off x="5791320" y="2209680"/>
            <a:ext cx="30477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8F3F-FDB2-4418-9956-FC461AD012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Gestion d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24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 spécif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31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nu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34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iv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37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40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xtes et l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43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 éviter de surcharger l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ste documentation + numérot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ens aux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FDF5-7683-4B0A-95C0-4798AA5FEA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n’ y a qu’UNE version officielle du manuel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anuel qualité n’est jamais fini, il est toujours amélio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lu, compris et accepté par t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rédigé clairement dans un langage facilement compréhe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daté et signé par la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en têtes standardisés devraient être utilisés et la  version de chaque procédure insc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velopper un manuel qualité est un gros travail mais il est gratifiant et utile pour le labora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F31F-FBE6-4180-BE2D-5F9FB33B9E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1430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60B9-966E-4F66-A423-0B1F98A1E0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diger un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gence de la norme ISO15189, mais le style et la structure ne sont pas spéc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un comité de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blir des lignes de conduite pour chacun des douze points ess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ligne de conduite, mentionner les buts et désigner les responsabili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ntenu doit inclure les lignes de conduite et faire référence aux processus et 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DD29-C140-4B7E-BF3C-1222F9EFE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Exempl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  Manuel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sation et 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gnes de conduite qua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nel (éducation et form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documents, incluant les registres, la maintenance et l’archi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âtiments 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6D8F-FB35-4F61-8622-09B456D938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struments, réactifs, consom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cherche et développement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(optio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ré analy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ost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E4C0-EC81-42DF-8D3A-EC6F5DA48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ystème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plaintes – gestion des problè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s et autre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ons préventives et correctives, audits inter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18B9-75C1-4800-8A3E-F67B80F74D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historique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hamp d’application du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ises à jour du man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.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ur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94B1-507D-43C6-A9A9-84F0CB4AAC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on de l’organisa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té lég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xigences de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ignement des responsabilités/aut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2. Organisation et 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A64F-6383-42FB-B35F-AC0B356D87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3. Ligne de conduit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claration officielle d’une ligne de conduite par la direc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ure que le directeur du laboratoire désignera un responsab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finit le laboratoi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dolmazonv</cp:lastModifiedBy>
  <dcterms:modified xsi:type="dcterms:W3CDTF">2010-04-08T14:50:49Z</dcterms:modified>
  <cp:revision>23</cp:revision>
  <dc:subject/>
  <dc:title>Example of Written Policy CLSI HS1</dc:title>
</cp:coreProperties>
</file>